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4575-F4EC-49D6-9EA6-1A2E2F58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BDA-6D30-464C-B15C-FE32CD2E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DB9-6AB7-416F-ACA7-2023416F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C3E-C140-455D-9562-7EFB043D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67D-53A3-4FA2-8945-8916D073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006-431B-4C21-860D-E050D3A8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818C-FA18-4245-A28E-925C031D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931-683B-4685-A440-4C22B16A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B8BC-FCFA-44EC-81F6-125F8D18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423-F718-42CB-B4FC-2416DCEC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E10-C27F-452C-A789-C84AAD2D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ACA-6BB3-4A09-9DD7-C2EE95E2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0291-ADE9-42CC-82E4-1BC07F1B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5724360" cy="59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08720" y="2781360"/>
            <a:ext cx="3097080" cy="1295280"/>
          </a:xfrm>
          <a:prstGeom prst="wedgeRectCallout">
            <a:avLst>
              <a:gd name="adj1" fmla="val -97666"/>
              <a:gd name="adj2" fmla="val 18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80000" y="2997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i im the Easter bu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4360" y="2637000"/>
            <a:ext cx="40496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445000"/>
            <a:ext cx="4356000" cy="333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4049640" cy="422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88000" y="5445000"/>
            <a:ext cx="4356000" cy="333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5445000"/>
            <a:ext cx="4356000" cy="333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4049640" cy="3500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88000" y="5445000"/>
            <a:ext cx="4356000" cy="333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42847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27640" y="0"/>
            <a:ext cx="2952720" cy="2133720"/>
          </a:xfrm>
          <a:prstGeom prst="wedgeRectCallout">
            <a:avLst>
              <a:gd name="adj1" fmla="val 109194"/>
              <a:gd name="adj2" fmla="val -51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26028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r GET UP NOW ASS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64000" y="1628640"/>
            <a:ext cx="4032360" cy="18003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191628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O.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049640" cy="350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987640" y="981000"/>
            <a:ext cx="3888000" cy="2133720"/>
          </a:xfrm>
          <a:prstGeom prst="cloudCallout">
            <a:avLst>
              <a:gd name="adj1" fmla="val 104143"/>
              <a:gd name="adj2" fmla="val -89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16286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DON’T YOU DIE!!!!!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049640" cy="350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4360" y="3068640"/>
            <a:ext cx="2737080" cy="1008000"/>
          </a:xfrm>
          <a:prstGeom prst="wedgeRectCallout">
            <a:avLst>
              <a:gd name="adj1" fmla="val -43736"/>
              <a:gd name="adj2" fmla="val 89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360" y="328464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THE EASTER BUNNY I DON’T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049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4049640" cy="4221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3241800" cy="2664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20000" y="2924280"/>
            <a:ext cx="1763640" cy="2303280"/>
          </a:xfrm>
          <a:prstGeom prst="cloudCallout">
            <a:avLst>
              <a:gd name="adj1" fmla="val 78351"/>
              <a:gd name="adj2" fmla="val -17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6000" y="357336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HAHAHAHAHAHAHAHAHAH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94360" y="2637000"/>
            <a:ext cx="4049640" cy="422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165720"/>
            <a:ext cx="2556000" cy="69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-1035000"/>
            <a:ext cx="10512360" cy="885672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-387360"/>
            <a:ext cx="3456000" cy="321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4797360"/>
            <a:ext cx="2195640" cy="18716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0"/>
            <a:ext cx="2916360" cy="18446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565360"/>
            <a:ext cx="54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BO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4049640" cy="422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165720"/>
            <a:ext cx="2627280" cy="69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57080" y="4508640"/>
            <a:ext cx="4049640" cy="184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89720"/>
            <a:ext cx="2844720" cy="126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43280" y="2131920"/>
            <a:ext cx="6300720" cy="472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2276640"/>
            <a:ext cx="2952720" cy="2950920"/>
          </a:xfrm>
          <a:prstGeom prst="cloudCallout">
            <a:avLst>
              <a:gd name="adj1" fmla="val 81453"/>
              <a:gd name="adj2" fmla="val 775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27082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&amp;!$@^(#&amp;%@*&amp;)(&amp;%$#%*#$@&amp;*%#^%#*&amp;%&amp;$*^(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43280" y="2131920"/>
            <a:ext cx="6300720" cy="472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27640" y="333360"/>
            <a:ext cx="2808360" cy="2060640"/>
          </a:xfrm>
          <a:prstGeom prst="cloudCallout">
            <a:avLst>
              <a:gd name="adj1" fmla="val 101722"/>
              <a:gd name="adj2" fmla="val -4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69228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???????????????????????????????????????????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3280" y="2131920"/>
            <a:ext cx="6300720" cy="4726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2276640"/>
            <a:ext cx="2952720" cy="2950920"/>
          </a:xfrm>
          <a:prstGeom prst="cloudCallout">
            <a:avLst>
              <a:gd name="adj1" fmla="val 81453"/>
              <a:gd name="adj2" fmla="val 775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2997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URT ASSHOLE!!!!!!!!!!!!!!!!!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62064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Impact"/>
              </a:rPr>
              <a:t>5 HOURS LATER!!!!!!!!!!!!!!!!!!!!!!!!!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4:54:23Z</dcterms:created>
  <dc:creator>Admin</dc:creator>
  <dc:description/>
  <dc:language>en-US</dc:language>
  <cp:lastModifiedBy>Admin</cp:lastModifiedBy>
  <dcterms:modified xsi:type="dcterms:W3CDTF">2009-04-24T01:26:08Z</dcterms:modified>
  <cp:revision>4</cp:revision>
  <dc:subject/>
  <dc:title>Slide 1</dc:title>
</cp:coreProperties>
</file>